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474-EAF3-45B2-8E7B-87EF8C6A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13E-6F76-4731-A5F0-08631A1C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CA8-5C86-42EC-B3F4-C3CB3F7C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7EB-2241-49D7-A6D8-88E13B8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E28-095D-4549-AA81-5D803381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C51-D8BF-4948-97C1-A415659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0EA-E9EB-4B7A-BC92-39ED06D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1434-DA3E-47B6-AE61-0700FD77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7F08-ECB1-4298-BF41-E98E0DFF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FFD3-2D58-4C4A-BCFF-6B1E841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F345-4EC3-4B8E-9147-952DB2CD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EE5-E1C3-4F6D-AB62-287F8F2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AE5-C846-494F-8114-7AC670C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3DB-3746-4463-8FD6-51D26CC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09F7-98C8-4897-917B-C4B7CDE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CA18-0546-49BE-86EC-86840FD3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ADD-08E1-4BB4-9183-8565E1C0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FED-440B-42F9-A587-31BD882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BA3-2DEE-461E-BC8D-B5F58FE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E82-2EE4-45E4-A03C-097CDAF3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3D4-E806-4922-A1D9-0B8D0BB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F85-AF11-42B8-80B7-2062151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B0D-3EA1-4542-95AA-1D673F8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4C6-AA32-49B5-AB1C-9320F55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6A5-3981-4F86-8E00-ADC22941E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877-0883-48DD-AC87-F8052E725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41360"/>
            <a:ext cx="77724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ΑΝΑΔΙΑΤΑΞΗ ΤΟΥ ΛΟΓΑΡΙΑΜΟΥ </a:t>
            </a:r>
            <a:br>
              <a:rPr sz="2000"/>
            </a:br>
            <a:r>
              <a:rPr b="1" lang="el-GR" sz="2000" spc="-1" strike="noStrike">
                <a:solidFill>
                  <a:srgbClr val="ffffff"/>
                </a:solidFill>
                <a:latin typeface="Arial"/>
              </a:rPr>
              <a:t>80.00 ΓΕΝΙΚΗ ΕΚΜΕΤΑΛΛΕΥΣΗ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2033640"/>
            <a:ext cx="3600360" cy="359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30480" y="504720"/>
            <a:ext cx="1158840" cy="868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04000" y="441360"/>
            <a:ext cx="1158840" cy="8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80.00 ΓΕΝΙΚΗ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80.00 ΓΕΝΙΚΗ ΕΚΜΕΤΑΛΛΕΥΣΗ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 ΕΚΜΕΤΑΛΛΕΥΣΗ</a:t>
            </a:r>
            <a:r>
              <a:rPr b="0" lang="el-GR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20 ΕΜΠΟΡΕΥΜΑΤ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ΑΡΧΙΚΟ ΑΠΟΘΕΜΑ    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+ΑΓΟΡΕΣ                  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Garamond"/>
              </a:rPr>
              <a:t>5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ΣΥΝΟΛΟ                          7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-ΤΕΛΙΚΟ ΑΠΟΘΕΜΑ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Garamond"/>
              </a:rPr>
              <a:t>-1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=ΚΟΣΤΟΣ ΠΩΛΗΘΕΝΤΩΝ          5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ΕΞΟΔΑ 6</a:t>
            </a:r>
            <a:r>
              <a:rPr b="0" lang="el-GR" sz="2000" spc="-1" strike="noStrike" baseline="30000">
                <a:solidFill>
                  <a:srgbClr val="ffffff"/>
                </a:solidFill>
                <a:latin typeface="Arial Narrow"/>
              </a:rPr>
              <a:t>ης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 ΟΜΑΔΑΣ            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 Narrow"/>
              </a:rPr>
              <a:t>18.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ΣΥΝΟΛΙΚΟ ΚΟΣΤΟΣ                   73.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ΚΕΡΔΗ                                        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 Narrow"/>
              </a:rPr>
              <a:t>43.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ΣΥΝΟΛΟ                                     11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Garamond"/>
              </a:rPr>
              <a:t>1.ΠΩΛΗΣΕΙ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70 ΕΜΠΟΡΕΥΜΑΤΩΝ          9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Garamond"/>
              </a:rPr>
              <a:t>2.ΛΟΙΠΑ ΟΡΓΑΝΙΚ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Garamond"/>
              </a:rPr>
              <a:t>                           </a:t>
            </a:r>
            <a:r>
              <a:rPr b="0" lang="el-GR" sz="2000" spc="-1" strike="noStrike">
                <a:solidFill>
                  <a:srgbClr val="ffffcc"/>
                </a:solidFill>
                <a:latin typeface="Garamond"/>
              </a:rPr>
              <a:t>ΕΣΟΔΑ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Garamond"/>
              </a:rPr>
              <a:t>27.000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74.ΕΠΙΧΟΡΗΓΗΣΕΙ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5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75.ΠΑΡΕΠΟΜΕΝΩΝ ΑΣ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2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76.ΕΣΟΔΑ ΚΕΦΑΛΑΙΩ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el-GR" sz="1600" spc="-1" strike="noStrike">
                <a:solidFill>
                  <a:srgbClr val="ffffff"/>
                </a:solidFill>
                <a:latin typeface="Garamond"/>
              </a:rPr>
              <a:t>2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ΥΝΟΛΟ                     117.000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Garamond"/>
              </a:rPr>
              <a:t>ΛΟΓΑΡΙΑΣΜΟΣ</a:t>
            </a:r>
            <a:r>
              <a:rPr b="0" lang="el-GR" sz="2000" spc="-1" strike="noStrike">
                <a:solidFill>
                  <a:srgbClr val="ffff00"/>
                </a:solidFill>
                <a:latin typeface="Garamond"/>
              </a:rPr>
              <a:t> 80.00 ΣΕ 80.01,80.02,80.03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1 ΜΕΙΚΤΑ ΑΠΟΤΕΛΕΣΜΑΤΑ ΕΚΜΕΤΑΛΛΕΥ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ΠΩΛΗΣΕΙΣ                                                   9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ΙΟΝ ΚΟΣΤΟΣ ΠΩΛΗΘΕΝΤΩΝ                           -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5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99"/>
                </a:solidFill>
                <a:uFillTx/>
                <a:latin typeface="Arial"/>
              </a:rPr>
              <a:t>ΠΙΣΤΩΣΗ ΛΟΓΑΡΙΑΣΜΟΥ</a:t>
            </a:r>
            <a:r>
              <a:rPr b="0" lang="el-GR" sz="2000" spc="-1" strike="noStrike">
                <a:solidFill>
                  <a:srgbClr val="ffff99"/>
                </a:solidFill>
                <a:latin typeface="Arial"/>
              </a:rPr>
              <a:t>                                        35.000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3 ΕΣΟΔΑ ΜΗ ΠΡΟΣΔΙΟΡΙΣΤΙΚΑ   </a:t>
            </a:r>
            <a:r>
              <a:rPr b="0" lang="el-GR" sz="2000" spc="-1" strike="noStrike">
                <a:solidFill>
                  <a:srgbClr val="ffff99"/>
                </a:solidFill>
                <a:latin typeface="Arial"/>
              </a:rPr>
              <a:t>ΠΙΣΤΩΣΗ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ffff99"/>
                </a:solidFill>
                <a:latin typeface="Arial"/>
              </a:rPr>
              <a:t>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ΝΑΛΥΤΙΚ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3.00 ΑΛΛΑ ΕΣΟΔΑ                             25.00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ΠΙΧΟΡΗΓΗΣΕΙΣ               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ΣΟΔΑ ΠΑΡ.ΑΣΧ.            2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3.04 ΠΙΣΤΩΤΙΚΟΙ ΤΟΚΟΙ                      2.0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Garamond"/>
              </a:rPr>
              <a:t>ΛΟΓΑΡΙΑΣΜΟΣ</a:t>
            </a:r>
            <a:r>
              <a:rPr b="0" lang="el-GR" sz="2000" spc="-1" strike="noStrike">
                <a:solidFill>
                  <a:srgbClr val="ffff00"/>
                </a:solidFill>
                <a:latin typeface="Garamond"/>
              </a:rPr>
              <a:t> 80.00 ΣΕ 80.01,80.02,80.03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60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ΕΞΟΔΑ ΚΑΤ’ ΕΙΔΟΣ 6</a:t>
            </a:r>
            <a:r>
              <a:rPr b="0" lang="el-GR" sz="2000" spc="-1" strike="noStrike" baseline="30000">
                <a:solidFill>
                  <a:srgbClr val="ffffff"/>
                </a:solidFill>
                <a:latin typeface="Garamond"/>
              </a:rPr>
              <a:t>ης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ΟΜΑΔΑΣ                  18.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ΦΥΛΛΟ ΜΕΡΙΣΜΟ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99"/>
                </a:solidFill>
                <a:latin typeface="Garamond"/>
              </a:rPr>
              <a:t>80.02 ΕΞΟΔΑ ΜΗ ΠΡΟΣΔΙΟΡΙΣΤΙΚΑ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ΑΝΑΛΥΤΙΚ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80.02.00 ΔΙΟΙΚΗΣΗΣ  50%               8.5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80.02.02 ΔΙΑΘΕΣΗΣ    50%               8.5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ΤΟΚΟΙ ΚΑΙ ΣΥΝΑΦΗ ΕΞΟΔΑ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Garamond"/>
              </a:rPr>
              <a:t>1.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99"/>
                </a:solidFill>
                <a:uFillTx/>
                <a:latin typeface="Garamond"/>
              </a:rPr>
              <a:t>ΧΡΕΩΣΗ ΛΟΓΑΡΙΑΣΜΩ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fd293"/>
                </a:solidFill>
                <a:latin typeface="Arial"/>
              </a:rPr>
              <a:t>ΛΟΓΙΚΗ ΛΥΣΗ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15920"/>
            <a:ext cx="822960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ΧΡΕΩΣΗ   ΠΙΣΤΩ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0 ΛΟΓ/ΜΟΣ  ΓΕΝΙΚΗΣ ΕΚΜΕΤΑΛΛΕΥΣΗΣ                       43.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ΧΡΕΩΝΕΤΑ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ΜΕ ΤΑ ΜΕΙΚΤΑ ΑΠΟΤΕΛΕΣΜΑΤΑ                            3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ΚΑΙ ΜΕ ΤΑ ΕΣΟΔΑ ΜΗ ΠΡΟΣΔΙΟΡΙΣΤΙΚΑ                27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ΠΙΣΤΩΝΕΤΑ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 Narrow"/>
              </a:rPr>
              <a:t>ΜΕ ΕΞΟΔΑ ΜΗ ΠΡΟΣΔΙΟΡΙΣΤΙΚΑ(ΦΥΛΛΟ ΜΕΡΙΣΜΟΥ)            </a:t>
            </a:r>
            <a:r>
              <a:rPr b="0" i="1" lang="el-GR" sz="2000" spc="-1" strike="noStrike" u="sng">
                <a:solidFill>
                  <a:srgbClr val="ffffff"/>
                </a:solidFill>
                <a:uFillTx/>
                <a:latin typeface="Arial Narrow"/>
              </a:rPr>
              <a:t>.............</a:t>
            </a:r>
            <a:r>
              <a:rPr b="0" i="1" lang="el-GR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18.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ΟΠΟΤΕ ΚΛΕΙΝΕΙ                            ΣΥΝΟΛΟ              62.000    62.000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fd293"/>
                </a:solidFill>
                <a:latin typeface="Arial"/>
              </a:rPr>
              <a:t>ΛΥΣΗ ΣΥΜΦΩΝΑ ΜΕ Ε.Γ.Λ.Σ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ΤΟ ΥΠΟΛΟΙΠΟ ΤΟΥ ΛΟΓΑΡΙΑΣΜΟΥ  80.00 ΓΕΝΙΚΗΣ ΕΚΜΕΤΑΛΛΕΥΣΗ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ΜΕΤΑΦΕΡΕΤΑΙ ΣΤΟΝ ΛΟΓΑΡΙΑΣΜ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ΧΡΕΩΣΗ    ΠΙΣΤΩΣ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80.01 ΜΕΙΚΤΑ ΑΠΟΤΕΛΕΣΜΑΤΑ ΕΚΜΕΤΑΛΛΕΥΣΗΣ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ΠΟ 80.00    (χρέωση)                                                                43.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ΣΤΗ ΣΥΝΕΧΕΙΑ ΔΙΟΡΘΩΝΕΤΑΙ Ο ΛΟΓΑΡΙΑΣΜΟ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ΩΣ ΕΞΗ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fd293"/>
                </a:solidFill>
                <a:latin typeface="Arial"/>
              </a:rPr>
              <a:t>ΛΥΣΗ ΣΥΜΦΩΝΑ ΜΕ Ε.Γ.Λ.Σ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ΧΡΕΩΣΗ    ΠΙΣΤΩΣ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80.01 ΜΕΙΚΤΑ ΑΠΟΤΕΛΕΣΜΑΤΑ ΕΚΜΕΤΑΛΛΕΥΣΗΣ                                  43.4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1)ΧΡΕΩΝΕΤΑΙ Ο 80.02 ΕΞΟΔΑ ΜΗ ΠΡΟΣΔΙΟΡΙΣΤΙΚ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ΜΕ ΤΟ ΦΥΛΛΟ ΜΕΡΙΣΜΟΥ 18.600 ΣΕ ΠΙΣΤΩΣΗ                                          18.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2)ΠΙΣΤΩΝΕΤΑΙ Ο 80.03 ΕΣΟΔΑ ΜΗ ΠΡΟΣΔΙΟΡΙΣΤΙΚ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ΜΕ ΤΑ ΛΟΙΠΑ ΕΣΟΔΑ  27.000     ΣΕ ΧΡΕΩΣΗ                 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 Narrow"/>
              </a:rPr>
              <a:t>27.000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 Narrow"/>
              </a:rPr>
              <a:t>...........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ΣΥΝΟΛΑ                         27.000            62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ΔΗΛΑΔΗ ΠΙΣΤΩΤΙΚΟ ΥΠΟΛΟΙΠΟ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62.000-27000=</a:t>
            </a:r>
            <a:r>
              <a:rPr b="1" lang="el-GR" sz="2400" spc="-1" strike="noStrike">
                <a:solidFill>
                  <a:srgbClr val="ffff99"/>
                </a:solidFill>
                <a:latin typeface="Arial Narrow"/>
              </a:rPr>
              <a:t>35.000</a:t>
            </a:r>
            <a:r>
              <a:rPr b="0" lang="el-GR" sz="2000" spc="-1" strike="noStrike">
                <a:solidFill>
                  <a:srgbClr val="ffffff"/>
                </a:solidFill>
                <a:latin typeface="Arial Narrow"/>
              </a:rPr>
              <a:t>=ΠΡΑΓΜΑΤΙ ΜΕΙΚΤΟ ΑΠΟΤΕΛΕΣΜ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48000" y="1347840"/>
            <a:ext cx="2448000" cy="4162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dfd293"/>
                </a:solidFill>
                <a:latin typeface="Arial"/>
              </a:rPr>
              <a:t>ΔΗΛΑΔΗ ΤΗ ΛΟΓΙΚΗ ΤΗΝ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20920" y="55008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ΞΕΣΚΙΖΕ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ΜΑΥΡΟΓΕΝΗΣ ΓΙΑΝΝΗ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Helper</dc:creator>
  <dc:description/>
  <dc:language>en-US</dc:language>
  <cp:lastModifiedBy>JHON</cp:lastModifiedBy>
  <dcterms:modified xsi:type="dcterms:W3CDTF">2009-04-20T12:02:41Z</dcterms:modified>
  <cp:revision>69</cp:revision>
  <dc:subject/>
  <dc:title>Subtle Waves Template</dc:title>
</cp:coreProperties>
</file>